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048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480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66652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65048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480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2BD4-D954-429A-B7DD-59824F23D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D8E6-CD9D-4365-B193-FB513B0B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B33B-9921-4421-BE1E-F5F2021E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CEA6-4F55-4A26-A27B-1DA4BC35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850D-8D70-4400-B120-BC90DBC6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120" y="7828560"/>
            <a:ext cx="12956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6E40-CAAC-4E13-9264-291043CE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A383-71E8-4415-91B5-CF05175B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C615-5535-44F6-ABB3-257F3FA7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6DEE-1BF0-42D1-8B88-2DBA0788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DB1E-9611-4E98-81A3-4B3B9C2E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7F45-C417-4798-98E8-E696FCC92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048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480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66652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65048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480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04FC-39B7-4FB1-9377-6234B5BFC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120" y="7828560"/>
            <a:ext cx="12956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02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R04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R02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R04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R01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7F13-6EC0-4D14-A565-9205D14B7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2285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ff"/>
                </a:solidFill>
                <a:latin typeface="Times New Roman"/>
              </a:rPr>
              <a:t>Lesson 17</a:t>
            </a: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9900ff"/>
                </a:solidFill>
                <a:latin typeface="Times New Roman"/>
              </a:rPr>
              <a:t>Always you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05280" y="-15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rehension ques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 What’s your aunt cal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 What is sh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 How old is sh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 Does she often appear on the stage as a young gir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 What will she have to do so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 How old  will she pretend to b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 What colour dress must she we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8 What kind of stockings must she we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9 Did she appear in a play last ye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 She had to wear short socks, didn’t sh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1 Do most women of thirty-five wear clothes like th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2 Do peopole ever ask how old she 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91476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tell the sto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y aunt---ac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ust---thiry-five---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 spite of---appears---stage---g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Jennifer---take part---new play so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is time---girl---sevent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 the play---appear---dress---stock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Last year---play---short socks---coloured 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f ---how old---always answers--- ‘Darling---terrible---grown up!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utline the phrases in the story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t least    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至少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起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n spite of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不管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尽管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虽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ppear on the stage as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登台扮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Have to    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不得不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必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Take part in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参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 girl of seventeen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一个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7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岁的女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n a bright red dress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穿着鲜红色的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Be grown up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长大成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6858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y aunt Jennifer is an actress. She must be 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at least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irty-five years old. 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In spite of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is, she often appears on the stage as a young girl. Jennifer will have to take part in a new play soon. This time, she will be a gilr of seventeen. In the play, she must appear 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in a bright red dress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nd long black stockings. Last year in another play, she had to wear short socks and a bright, orange-coloured dress. If anyone ever asks her how old she is, she always answers, ‘Darling, it must be terrible to be grown up! 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14400" y="533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At+(the) 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最高级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表示“最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至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Eg. At most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至多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最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at least 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至少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最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at the latest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最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at the earliest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最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这儿最多有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50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个人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.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至少有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200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人已经走了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There is at most 50 people.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At least 200 have le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我最晚在星期五给你答复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I will give you an answer on Friday at the lat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7543800" y="838080"/>
            <a:ext cx="738360" cy="738360"/>
          </a:xfrm>
          <a:custGeom>
            <a:avLst/>
            <a:gdLst>
              <a:gd name="textAreaLeft" fmla="*/ 47880 w 738360"/>
              <a:gd name="textAreaRight" fmla="*/ 690840 w 73836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142640" y="9907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2. In spite of +</a:t>
            </a: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名词</a:t>
            </a: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=although +</a:t>
            </a: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从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 went out in spite of the r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 We went out although it was rai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虽然生病了，可他还是来开会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came to the meeting in spite of his ill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 He came to the meeting  although he was 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7162920" y="5486400"/>
            <a:ext cx="738000" cy="814320"/>
          </a:xfrm>
          <a:custGeom>
            <a:avLst/>
            <a:gdLst>
              <a:gd name="textAreaLeft" fmla="*/ 47520 w 738000"/>
              <a:gd name="textAreaRight" fmla="*/ 690480 w 738000"/>
              <a:gd name="textAreaTop" fmla="*/ 47520 h 814320"/>
              <a:gd name="textAreaBottom" fmla="*/ 766800 h 814320"/>
            </a:gdLst>
            <a:ahLst/>
            <a:rect l="textAreaLeft" t="textAreaTop" r="textAreaRight" b="textAreaBottom"/>
            <a:pathLst>
              <a:path w="21600" h="23833">
                <a:moveTo>
                  <a:pt x="0" y="0"/>
                </a:moveTo>
                <a:lnTo>
                  <a:pt x="21600" y="0"/>
                </a:lnTo>
                <a:lnTo>
                  <a:pt x="21600" y="23833"/>
                </a:lnTo>
                <a:lnTo>
                  <a:pt x="0" y="23833"/>
                </a:lnTo>
                <a:close/>
              </a:path>
              <a:path fill="lightenLess" w="21600" h="238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3">
                <a:moveTo>
                  <a:pt x="21600" y="0"/>
                </a:moveTo>
                <a:lnTo>
                  <a:pt x="21600" y="23833"/>
                </a:lnTo>
                <a:lnTo>
                  <a:pt x="20200" y="22433"/>
                </a:lnTo>
                <a:lnTo>
                  <a:pt x="20200" y="1400"/>
                </a:lnTo>
                <a:close/>
              </a:path>
              <a:path fill="darkenLess" w="21600" h="23833">
                <a:moveTo>
                  <a:pt x="21600" y="23833"/>
                </a:moveTo>
                <a:lnTo>
                  <a:pt x="0" y="23833"/>
                </a:lnTo>
                <a:lnTo>
                  <a:pt x="1400" y="22433"/>
                </a:lnTo>
                <a:lnTo>
                  <a:pt x="20200" y="22433"/>
                </a:lnTo>
                <a:close/>
              </a:path>
              <a:path fill="lighten" w="21600" h="23833">
                <a:moveTo>
                  <a:pt x="0" y="238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3"/>
                </a:lnTo>
                <a:close/>
              </a:path>
              <a:path fill="darken" w="21600" h="23833">
                <a:moveTo>
                  <a:pt x="10800" y="4953"/>
                </a:moveTo>
                <a:lnTo>
                  <a:pt x="13376" y="7564"/>
                </a:lnTo>
                <a:lnTo>
                  <a:pt x="13376" y="5824"/>
                </a:lnTo>
                <a:lnTo>
                  <a:pt x="15152" y="5824"/>
                </a:lnTo>
                <a:lnTo>
                  <a:pt x="15152" y="9340"/>
                </a:lnTo>
                <a:lnTo>
                  <a:pt x="17763" y="11916"/>
                </a:lnTo>
                <a:lnTo>
                  <a:pt x="16109" y="11916"/>
                </a:lnTo>
                <a:lnTo>
                  <a:pt x="16109" y="19106"/>
                </a:lnTo>
                <a:lnTo>
                  <a:pt x="5491" y="19106"/>
                </a:lnTo>
                <a:lnTo>
                  <a:pt x="5491" y="11916"/>
                </a:lnTo>
                <a:lnTo>
                  <a:pt x="3837" y="11916"/>
                </a:lnTo>
                <a:close/>
              </a:path>
              <a:path fill="darkenLess" w="21600" h="23833">
                <a:moveTo>
                  <a:pt x="13376" y="7564"/>
                </a:moveTo>
                <a:lnTo>
                  <a:pt x="13376" y="5824"/>
                </a:lnTo>
                <a:lnTo>
                  <a:pt x="15152" y="5824"/>
                </a:lnTo>
                <a:lnTo>
                  <a:pt x="15152" y="9340"/>
                </a:lnTo>
                <a:close/>
              </a:path>
              <a:path fill="darkenLess" w="21600" h="23833">
                <a:moveTo>
                  <a:pt x="9877" y="15415"/>
                </a:moveTo>
                <a:lnTo>
                  <a:pt x="11723" y="15415"/>
                </a:lnTo>
                <a:lnTo>
                  <a:pt x="11723" y="19106"/>
                </a:lnTo>
                <a:lnTo>
                  <a:pt x="16109" y="19106"/>
                </a:lnTo>
                <a:lnTo>
                  <a:pt x="16109" y="11916"/>
                </a:lnTo>
                <a:lnTo>
                  <a:pt x="5491" y="11916"/>
                </a:lnTo>
                <a:lnTo>
                  <a:pt x="5491" y="19106"/>
                </a:lnTo>
                <a:lnTo>
                  <a:pt x="9877" y="191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219320" y="99072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3. In +</a:t>
            </a: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颜色</a:t>
            </a: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/ </a:t>
            </a: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服装 “穿着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新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bride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通常穿白衣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rides are usually in wh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街上有很多便衣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plainclothes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警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re are a lot of policemen in plainclothes in the str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穿红衣服的女孩是我妹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girl in red is my sist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7543800" y="4952880"/>
            <a:ext cx="738360" cy="814680"/>
          </a:xfrm>
          <a:custGeom>
            <a:avLst/>
            <a:gdLst>
              <a:gd name="textAreaLeft" fmla="*/ 47880 w 738360"/>
              <a:gd name="textAreaRight" fmla="*/ 690840 w 738360"/>
              <a:gd name="textAreaTop" fmla="*/ 47880 h 814680"/>
              <a:gd name="textAreaBottom" fmla="*/ 767160 h 8146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10800" y="4953"/>
                </a:moveTo>
                <a:lnTo>
                  <a:pt x="13376" y="7564"/>
                </a:lnTo>
                <a:lnTo>
                  <a:pt x="13376" y="5823"/>
                </a:lnTo>
                <a:lnTo>
                  <a:pt x="15152" y="5823"/>
                </a:lnTo>
                <a:lnTo>
                  <a:pt x="15152" y="9339"/>
                </a:lnTo>
                <a:lnTo>
                  <a:pt x="17763" y="11916"/>
                </a:lnTo>
                <a:lnTo>
                  <a:pt x="16109" y="11916"/>
                </a:lnTo>
                <a:lnTo>
                  <a:pt x="16109" y="19105"/>
                </a:lnTo>
                <a:lnTo>
                  <a:pt x="5491" y="19105"/>
                </a:lnTo>
                <a:lnTo>
                  <a:pt x="5491" y="11916"/>
                </a:lnTo>
                <a:lnTo>
                  <a:pt x="3837" y="11916"/>
                </a:lnTo>
                <a:close/>
              </a:path>
              <a:path fill="darkenLess" w="21600" h="23832">
                <a:moveTo>
                  <a:pt x="13376" y="7564"/>
                </a:moveTo>
                <a:lnTo>
                  <a:pt x="13376" y="5823"/>
                </a:lnTo>
                <a:lnTo>
                  <a:pt x="15152" y="5823"/>
                </a:lnTo>
                <a:lnTo>
                  <a:pt x="15152" y="9339"/>
                </a:lnTo>
                <a:close/>
              </a:path>
              <a:path fill="darkenLess" w="21600" h="23832">
                <a:moveTo>
                  <a:pt x="9877" y="15415"/>
                </a:moveTo>
                <a:lnTo>
                  <a:pt x="11723" y="15415"/>
                </a:lnTo>
                <a:lnTo>
                  <a:pt x="11723" y="19105"/>
                </a:lnTo>
                <a:lnTo>
                  <a:pt x="16109" y="19105"/>
                </a:lnTo>
                <a:lnTo>
                  <a:pt x="16109" y="11916"/>
                </a:lnTo>
                <a:lnTo>
                  <a:pt x="5491" y="11916"/>
                </a:lnTo>
                <a:lnTo>
                  <a:pt x="5491" y="19105"/>
                </a:lnTo>
                <a:lnTo>
                  <a:pt x="9877" y="1910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45756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Summary writing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My aunt Jennifer is an actress. She is over thirty years old. She often appears on the stage as a young girl. Jennifer will act the part of a girl of seventeen in a new play soon. She never tells anyone how old she really i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2T08:37:46Z</dcterms:created>
  <dc:creator/>
  <dc:description/>
  <dc:language>en-US</dc:language>
  <cp:lastModifiedBy>class</cp:lastModifiedBy>
  <dcterms:modified xsi:type="dcterms:W3CDTF">2002-10-08T03:04:16Z</dcterms:modified>
  <cp:revision>7</cp:revision>
  <dc:subject/>
  <dc:title>Lesson 17  Always young</dc:title>
</cp:coreProperties>
</file>